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D9154-9844-44C8-A299-5FC91B73AC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4F5A9-4AB2-4D7C-8513-126322ED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CCB07D-15A3-4585-AE46-C1AB47C1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E4BD5E-B6E5-495E-82D1-8B57E67D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D35064-8098-4C91-8CEC-8D679A6F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8C1679-1C3C-4223-9030-03214FDD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C90777-6F4F-4CA8-9629-0CB7FDD1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EC6145-E0B5-4A5E-B3EA-AE791E11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CBCB70-A5B5-4414-81B2-E8B8799D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4B8A39-3E81-4BB8-9301-F03431A4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EB6100-13E7-4612-A726-DA2B180D87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2E852-7690-4F16-BB82-88018E1932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5C33F-D0F9-4B55-9591-BD9D3CA6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42EF7-3981-483F-A674-E6C1C5C3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8C81B-1296-4F0F-B2A3-5A2969B5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14DD6-E122-4AEE-87B5-ACD085D6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ABE8F-19E8-49EB-B314-7A3EA70A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95EFF-E782-48FF-A2B5-75741FC0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82752-366C-4E4C-BC52-3710CD4A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11F23-CC3E-4CE7-8EAC-7FCC3DC0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8FA71-1EE6-4FC0-8BA5-FDEA32B7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FFC3E-0863-44D7-ABA7-5012A24B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AED83-EE71-49EC-90F0-E315768C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0630F-6A43-4875-86CA-9D859E6F9B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D64D7-B320-4B19-BDB6-95627C852E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B8FD8E-9E6B-4A63-A9F1-3A8D2ACDB1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BE34E9-7E2B-47BD-BE70-B527DB18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31B475-074B-4A7D-AE02-4D5E9FE4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31EFD5-567A-4C21-92EC-ACA7E635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7377DD-7C04-4E08-9339-32DE12A9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966616-6E16-4D22-BDAF-A7EF3661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5B2161-FD06-4C5C-BA18-A695DD6C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4C8967-722D-4883-9928-906E9E90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4B5636-740F-4790-B215-43BBC78B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7860D-6FC3-4D06-A7A8-CFB320D2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54936D-C09F-4EC4-8EAA-5780E551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44A165-203B-4411-B703-8DAB2E5C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1C933A-B632-4859-A43C-F3052AF28A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DF20CE-CB7F-421F-BC0E-91E19B281F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54DA5-693B-406F-8F58-FF4B6678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57AED2-2913-467D-8780-C8903779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552886-A5BB-45B4-8510-22C67B5F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5F40C-706A-4928-A635-E2864C7D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0F8391-2F06-48A7-8DA8-3D6616B0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8477B3-A150-4479-8FF4-8F5DE5CB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EB655-9237-4922-BE5F-E13ED424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B2ED58-CA90-4837-AD6D-40D3B0F5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FE3135-A6D5-4F79-8450-45DC2C75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13C10A-2B6B-4E54-B525-2C5251AB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B98C56-9A19-495A-814E-CF205FCB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A0DE3C-DFFA-41AB-A48B-AF3F6A9F3C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A8FA4-726F-4DA9-A962-C54AD6D37D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72288-95B2-4205-AF83-892E3692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4AB30-7655-4A9B-9D4C-B01C81AA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995DC-2F03-404C-B1C1-EAEDADB6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8D8C8-ACEE-41BC-9649-61C157EB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5A3D9-7642-45DC-8108-210B0D35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1726E-7643-44D8-B4CC-1FCE22B4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7632E-46F9-4178-B84A-CF0ECAE3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E4A75-1927-4AB9-838A-3B52C2C1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A2005-D83A-4AA5-BC99-AE81F4BE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2DA56-F0C7-48F0-B933-37845935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DEE5A-92C7-4928-A84D-52578D48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D1603-C249-4B6E-8EC1-504397D07B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5C42B-BB09-4322-A3A1-14FD6089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2934A-B16A-4119-BD8E-0A89D3F3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0646F-2CE9-43CE-B5E3-045F968B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1903D-4B1C-471A-97C1-C18EC6A0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1D56E-F128-4CAA-BDB6-1DA341FA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9EF21-3EC2-42C4-9281-F86CCB16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5847F-5345-4A9D-BC71-07284EBE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78E12-47FA-400A-B54B-19B4E34E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01610-6EE3-497A-A059-2274B9A9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77E33-E29B-4EB8-922F-AB6499DD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2DA161-B126-416B-9454-8F6D306B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D8C2C-9E81-490D-9F95-8A254AB8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4ACC3-A890-4BBC-90F2-23C7CF52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4F521-5F2F-433E-863E-E108E716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8BCEC-C06C-45B6-89BA-70780CA2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2F9AF-21AA-4F05-A5DA-ED2E90D9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A5D22-0C2F-4706-BC70-605988E3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0F6F9-E615-4767-B10F-C0FD0193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04F83-8680-4E40-8C6C-4C55D751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18211-B119-4B53-AC7D-C0CC27FF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39D08-E583-42C1-AA37-6A239B67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B7F1A-9BA3-4DF8-9286-6CE5FBD1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1662D-73FE-42B0-A371-9F2650F0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21CD5-11D0-4054-B973-5DEA3F4A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DF72A-FF83-4EA0-88C6-512C8126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76F25-4917-4C6B-84AB-7A4ECF73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D960A-A68C-418D-9F64-D040800C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AA473-A75C-4CD8-AA69-ADC0D6E0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6B317-C83A-45BA-A438-93B3CCF6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A20C6-FD56-48E6-8496-5F0E6E25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8F2C4-0996-4583-8D4E-292E9838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8A4B2-156C-40E8-87E2-A8472420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B1BEC-77D0-43F1-9B12-B9D8B258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57BCF-6088-4A77-8F57-46F396B4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633CE-52C9-43B2-860A-0E9D3F7F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218BB-C787-48F6-A454-8FAF45B7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7ED2D-963C-425E-A669-654784B6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61444-C486-43E4-8097-E408E008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23B28-4C9F-4D09-B911-EC14AA5C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DC08B-F564-41BA-B0B1-BC21006C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D59A4-C16A-43C5-839E-BE24B6F5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810F7-E85D-45B5-92E4-5C91FAAB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C17925-5424-4952-843D-D409F5F4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72AA10-C687-40DD-BFF9-A7021E6C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D907DB-A610-4051-8797-B0E168CC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87475-DA69-44EC-A156-416AAA2D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CBB967-5245-4C9D-8A06-7D2B21D1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749D6-53EA-46C1-B0BC-F75AEAEC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9B0EC-B745-44C1-8705-F277E227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98DF2C-B45E-44AF-AF05-82E98B67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F7D81D-5C22-463A-A6EC-2ED01EBF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E57E77-7D53-4717-98A7-FDA04EEE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25D42B-0C62-47BC-BFB1-A711A4E3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60C7E4-B07C-4994-93C1-0648957D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C9A345-BF1F-450F-AF3B-117ADCC0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79D440-BA7F-4B4D-8554-2B344265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50AC90-1BE1-4742-82A9-075DA2CC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E35B1E-2A8B-406B-AD11-F802A928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65D77F-91E6-4261-841C-C6667054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C6AEF-35A3-481C-A527-A17762D6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51D676-A241-4F90-B94F-E6DCAAAB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60DFE3-6676-4414-946E-3E0D916A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E49630-3429-466C-8835-2C5DEF8F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50D8DE-7B90-47E7-AAEA-C612245B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84F2D8-F5B5-466A-A20D-6E7A8E9A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CC0F32-B6A1-41F1-9C67-2C4E96D6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FE0895-0C14-4AD5-93EB-FAF03F75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FBFED8-CAF0-4A4C-BDBC-A279AEEA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B14AA1-AF10-459A-B9CE-A839FFEA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0B615B-90BB-4A6F-BA34-BD91BA8F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D9154-FB5A-487F-B31D-2B3D4786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DEA729-95B5-4F41-9CE4-7508EA4B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3CAB72-63ED-483E-B763-9C97B095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9CCB8C-C5FF-4794-8258-708D352C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672F53-525E-49E4-8E1B-854EFB41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6F6B73-6D78-4FB2-8FDB-ABDBA9DE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80A029-27CF-4E98-9CF3-9DE65DB8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720514-EAC6-441F-BC2E-0A1B2A8A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4916FD-6360-4660-B1E4-DE6076CB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E58A7F-2B29-49EA-9468-42FBDF29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006368-D21D-4926-9893-07FDA06D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ACB78-7E73-4DED-8567-F7E15762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804D6A-06B5-435E-9C17-CBA37B11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0A4526-872E-4725-B685-9169EC54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8A5451-115A-47A4-943B-973465D0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0AD31C-9D70-44FB-8993-882F0C68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6BC2B7-6041-425C-9121-96532B61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BDA1F9-CBE0-4842-BD52-07140B74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476177-BB77-4502-996E-758C8556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9EF65F-C98F-4AC3-A0D4-00FAE5EB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4D91D5-C16F-4194-992C-421B7366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62BA33-1FBE-4C79-AB0B-5E5578DD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BB429-A72F-4FCC-99ED-ED0C0DF8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669683-8FC5-4142-909D-080455F8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181940-4150-4210-9FAF-0CF748E0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EA6EF6-EE2F-4F2A-ABF3-A5163537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3FD748-3255-4729-9089-01CD7B7C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AADD75-50D8-4372-877E-61992DD6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D04CAC-0BAE-48B8-887D-CD38BF54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E7FF8F-E14A-4333-829A-E8CF3D4C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886D42-407D-4752-A744-EC574E01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60C259-BBF4-4456-8C4B-DF044DC3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8A0BDE-DD37-4E14-B445-985FC9C2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6D5FE5-D51F-48D1-829B-4695D9290B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4A860B-00AC-41E1-90A2-7CC6EEDD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D8C468-C41F-4786-90FD-E0A2127F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13DF5F-3548-421B-930C-7D93C6A2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A174BC-81DF-49A6-8190-F1B93F41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5DB108-5778-4349-8B5E-8DECB015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DEB3A9-1758-4A3F-AAEC-E162A033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791CB0-30AA-42EE-A138-95D2BF02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70A565-934D-4133-98FB-D204CC15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BF55B5-6285-451D-9B34-9FA935DC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60CF12-29B2-4D1C-ADDD-3789C839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C21188-6A74-4D08-BB71-B499A4B1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F0DE71-A82D-47B9-B38A-CC58547A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100407-F129-4EE6-A5E7-4BC630CF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D9B5FC-E74F-47F3-AE6D-68CFD2BC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17A7F7-0A00-4594-A2C9-03598569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6D2EF9-00B8-4ACD-9CF3-11CA6DD7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60D65E-9975-48DC-BD53-C6BE17F4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5C740C-008E-4CD3-93CA-D2DC7E61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EE80CE-5214-4208-A93E-3DEAAEB0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1ED2AF-F5EA-48CC-82D1-E4825A62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12E766-F548-4506-BC0D-F2FCC3D9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3104D1-8944-4B10-A0C6-41D6DF0E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C967FC-EA13-4F21-9EF5-3C76147E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AA8B0D-EC9C-4BB5-B718-7C5595B4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C606BA-ADF7-432B-A24D-525F4B1E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8F4E46-2475-44EB-9EBB-1C1C8683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618B5D-90E3-491A-A76D-466B7CDF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1946BF-13E9-4FBD-85EA-13A10CFC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5FF33A-2469-405D-B984-A7430AA3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92C856-0FF7-4533-9570-935F3691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11D164-B9F1-4E44-8900-C70A6ECF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FD9EFF-3DA7-480E-8619-760EF060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7A861E-8A07-4FC8-B6A2-4C8FD90D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B6F50F-CDDF-4EC8-855F-DFE36DB2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AD4107-5EB5-42FC-A2C6-917B848C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C31309-96F5-4878-AEFD-CED68D40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2DE8D9-02D8-496C-9A9F-353E6BAC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C93F4E-C3C6-4658-835B-30FE5F4F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519E48-0F43-4F4A-86F6-1464ABA3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EB8F29-8263-4F51-BA89-C3A620FF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982B2E-4BC9-4417-A2AD-FBFD48F1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7F4B33-DB7C-48D9-BA96-8FFDDE2C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A5B6F2-0A7A-41C0-9AE4-802278BA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9B926-0085-4F7B-A72E-3FED3794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C0F378-4EA3-41C8-AA10-2EB8AE2F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ECE884-2B3F-4944-AED6-25F05915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3F78F9-866D-4C35-AA50-A5402B69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26C0C3-16B0-461E-A44E-79153051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0BBFFC-0712-4172-93FA-313A798F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79B3D1-CA36-41EB-99FC-587625DB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7F079E-093E-4D97-8E61-740BB8EAFD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F7EFB-E648-4552-8F34-57360F2656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B1100-3001-44C3-82F5-DAA07BF0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80612-D1FF-49DF-A149-AA7A592E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2D4AB-CD5D-43C1-B9EA-A7DCA575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330B4-C493-4FC5-B9B6-3827AEA6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9C8E4-DBC0-4D23-A49B-B62C2771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B6CDB-9D10-4C76-8DFD-59B1A098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B2B27-3762-43D7-A12B-14D753EA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D9270-E37F-498A-AD0E-44DE23F3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48566-A9F1-4115-8499-C531BE9F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26150-BB73-4FC4-B267-6EC6B13C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9FEE8-74AA-4531-847E-47ECDB07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2035B-256A-4E6F-A4E5-A9ECC0551E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E69B89-3A9F-451A-A215-5638DE89EC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18E73-8B27-42B4-BDC5-841B750C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968A8C-F0DC-4925-90CA-5701626F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9FFA21-BEE4-4D97-A6AA-D02C7C74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233982-E41C-4610-9BEF-8BBA716B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EF072-5CFF-4897-8384-B6779A88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4EE4BE-943D-4B8D-9981-0BAA92D41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DA3870-ACF1-4D21-9AB9-02A47F8B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952E59-72C9-4F35-A244-ACFC0690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3D0C2F-D347-479F-8A34-60FE65EC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7788DF-3D02-43CC-95C1-6C48B961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BCC995-C49E-430C-8E3A-99E251B8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3AB28-875F-4A78-B1EF-EB1D1550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0C331E-B66D-4599-8E8F-E1C15ACF95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CDC129-87C2-4101-8A66-415124724E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0A8B45-FB7B-4413-81F5-10C604BB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EAE38F-D947-44DD-9F0A-B36E35F2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00921A-7C25-4673-9001-F4D59781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18E137-FD93-4915-B6FE-5100CC93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AAFE63-4742-42E4-9480-411B3B5A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C235E0-E13A-4D19-9CE0-516C73DD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E82BD0-D8FB-431F-8809-AA9F7178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95E15A-4595-4FB9-BB1C-3D967B7B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EDDD2-682F-42D8-A155-42873293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E86F6A-CA52-42AA-BCE7-E3D53D60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5B0A06-EAC3-47BA-9F59-FD2ECDCF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7F0D8A-A85D-4A56-85D0-EDC90C82C8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CA876-0654-43D0-8775-1B8D013F70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A6C5E-B175-4FEE-B17D-D037163B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EB7A2-2F3C-49D8-95D6-EC74C499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33ED7-AA69-4728-B2E4-255CDED4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6D81A-EA6A-49F3-B52F-3A1FF14F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C6D22-D60F-4654-A17C-088D2C97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0BC9F-F4D4-45C4-8B0E-A09914F4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73AD9-56B0-4D0E-A266-1466CA80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699CC-0599-4FA9-ADFE-18F46EF0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3EEBA-3E69-48D4-BA15-5E964767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5B573-85F4-4593-9A42-BBCC8606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38325-8BEE-4989-9DD5-B7246DBE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E29F9-D3A6-4772-A2CE-DE2FCE16D1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B109ED-8C98-4CDB-AD9E-782006BC95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7EA5CF-06A0-47D5-8D5F-CC92E0FC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A61E45-BC80-4AA5-8FEB-BAA3773E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C0D8BC-1E45-41C3-9B4D-423261F5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73E7A-120A-4168-97E9-B6BA8613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2B732-938F-4FE2-BE24-0C06AC9C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A1C17D-3B28-4670-9BF6-43BD01CF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1ECBEE-E4E8-4A43-9A25-53ECA9C5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F38DE8-108A-4C5B-9A53-66F6249B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FC6BAB-6A6A-49C9-8D4C-8BA35982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9EB4B5-398B-4336-803F-E1168216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D0FA1E-1EF1-4C41-86F3-F8003F55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A9BF3D-277D-4074-B5EF-AEE9064F3A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A8FEA1-7CF7-437F-A39F-F9E57317D1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B46E17-DF47-4F9D-953D-0CA67B03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B8F1B7-71F3-42B6-9106-893346C1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54B1-4B13-4875-9E52-876C13C740C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E2C2-364E-4515-AD1A-9156AEF0423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9EB4-8D98-4448-B515-C20301515D5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FF08-7B2C-4E8C-BF5A-EEC72DD1C11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339B-C9C0-4C21-A01F-D1BA7DCAAA5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3555-B684-4998-B9E5-7ACD3F15139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EC09-9DCD-4520-85CD-17706DF57CA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50E5-E4E8-4807-9C1E-703CB62D3D3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823D-0B0B-43E8-B8AB-428739267B6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F91D-DCE9-4E19-9231-D17DADFC8A7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ECF3-9908-42CE-8FFB-AB319B14259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BA90-B99B-495A-BB49-AE722BDD4DB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33FC-E429-44E0-AECA-5889C363995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3F58-7AF5-4CB9-99BD-4AA4F4ED3CD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C7F5-53F0-4E11-A133-FE8F2DA3C8A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BB4E-B09E-4746-81AE-13C4016CEE5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505E-67D2-46F9-956A-274C051447E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AAD5-F8DA-4EEE-8AB4-1005049B21B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A9E4-036A-47ED-882E-63E4B8EAC57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AAC0-7503-42D0-8144-950B23AA4B0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8A77-E3B6-40C0-B2B9-1153AF1EE8E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0F1E-C1CA-4A22-AFBB-CAB97FD37F7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201B-2ED2-400D-AA85-5EDBCAF49C7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B5B8-B51B-4020-9379-C0E520EB3DA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4475160" cy="360"/>
            <a:chOff x="2284560" y="2448000"/>
            <a:chExt cx="447516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447516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447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5"/>
          <p:cNvSpPr/>
          <p:nvPr/>
        </p:nvSpPr>
        <p:spPr>
          <a:xfrm>
            <a:off x="1655640" y="2716200"/>
            <a:ext cx="55908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6"/>
          <p:cNvSpPr/>
          <p:nvPr/>
        </p:nvSpPr>
        <p:spPr>
          <a:xfrm>
            <a:off x="1138320" y="2666880"/>
            <a:ext cx="678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长方形和正方形的周长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-1163520" y="1744560"/>
            <a:ext cx="88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方形和正方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4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47" name="椭圆 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8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5" name="矩形 9"/>
          <p:cNvSpPr/>
          <p:nvPr/>
        </p:nvSpPr>
        <p:spPr>
          <a:xfrm>
            <a:off x="1082520" y="8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文本框 103"/>
          <p:cNvSpPr/>
          <p:nvPr/>
        </p:nvSpPr>
        <p:spPr>
          <a:xfrm>
            <a:off x="293760" y="115740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算一算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7" name=""/>
          <p:cNvGraphicFramePr/>
          <p:nvPr/>
        </p:nvGraphicFramePr>
        <p:xfrm>
          <a:off x="609480" y="2162160"/>
          <a:ext cx="7167600" cy="1820880"/>
        </p:xfrm>
        <a:graphic>
          <a:graphicData uri="http://schemas.openxmlformats.org/drawingml/2006/table">
            <a:tbl>
              <a:tblPr/>
              <a:tblGrid>
                <a:gridCol w="1432080"/>
                <a:gridCol w="1431720"/>
                <a:gridCol w="1435320"/>
                <a:gridCol w="1433520"/>
                <a:gridCol w="1434960"/>
              </a:tblGrid>
              <a:tr h="606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厘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厘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厘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8" name="文本框 7"/>
          <p:cNvSpPr/>
          <p:nvPr/>
        </p:nvSpPr>
        <p:spPr>
          <a:xfrm>
            <a:off x="2441520" y="3432240"/>
            <a:ext cx="9460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文本框 3"/>
          <p:cNvSpPr/>
          <p:nvPr/>
        </p:nvSpPr>
        <p:spPr>
          <a:xfrm>
            <a:off x="4008600" y="2268360"/>
            <a:ext cx="9442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文本框 4"/>
          <p:cNvSpPr/>
          <p:nvPr/>
        </p:nvSpPr>
        <p:spPr>
          <a:xfrm>
            <a:off x="5359320" y="3432240"/>
            <a:ext cx="9460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文本框 6"/>
          <p:cNvSpPr/>
          <p:nvPr/>
        </p:nvSpPr>
        <p:spPr>
          <a:xfrm>
            <a:off x="6740640" y="2776680"/>
            <a:ext cx="946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12600" y="101520"/>
            <a:ext cx="3245040" cy="525600"/>
            <a:chOff x="12600" y="101520"/>
            <a:chExt cx="324504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63080" y="101520"/>
              <a:ext cx="3094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12600" y="197280"/>
              <a:ext cx="430200" cy="271800"/>
              <a:chOff x="12600" y="197280"/>
              <a:chExt cx="430200" cy="271800"/>
            </a:xfrm>
          </p:grpSpPr>
          <p:sp>
            <p:nvSpPr>
              <p:cNvPr id="1001" name="椭圆 1"/>
              <p:cNvSpPr/>
              <p:nvPr/>
            </p:nvSpPr>
            <p:spPr>
              <a:xfrm rot="16200000">
                <a:off x="2556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30760" y="32364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556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30760" y="21168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12600" y="33984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12600" y="31176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00" y="22500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12600" y="19728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9" name="Picture 18" descr="14"/>
          <p:cNvPicPr/>
          <p:nvPr/>
        </p:nvPicPr>
        <p:blipFill>
          <a:blip r:embed="rId8"/>
          <a:stretch/>
        </p:blipFill>
        <p:spPr>
          <a:xfrm>
            <a:off x="1187280" y="1219320"/>
            <a:ext cx="6769440" cy="2492280"/>
          </a:xfrm>
          <a:prstGeom prst="rect">
            <a:avLst/>
          </a:prstGeom>
          <a:ln w="0">
            <a:noFill/>
          </a:ln>
        </p:spPr>
      </p:pic>
      <p:sp>
        <p:nvSpPr>
          <p:cNvPr id="1010" name="Rectangle 3"/>
          <p:cNvSpPr/>
          <p:nvPr/>
        </p:nvSpPr>
        <p:spPr>
          <a:xfrm>
            <a:off x="392040" y="4497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你认识这两个图形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1193760" y="49532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你能分别指出这两个图形的周长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直接连接符 11"/>
          <p:cNvSpPr/>
          <p:nvPr/>
        </p:nvSpPr>
        <p:spPr>
          <a:xfrm>
            <a:off x="1216080" y="3297240"/>
            <a:ext cx="2936880" cy="144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直接连接符 12"/>
          <p:cNvSpPr/>
          <p:nvPr/>
        </p:nvSpPr>
        <p:spPr>
          <a:xfrm>
            <a:off x="4140360" y="1359000"/>
            <a:ext cx="0" cy="194472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直接连接符 15"/>
          <p:cNvSpPr/>
          <p:nvPr/>
        </p:nvSpPr>
        <p:spPr>
          <a:xfrm flipH="1">
            <a:off x="1216080" y="1359000"/>
            <a:ext cx="293832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直接连接符 19"/>
          <p:cNvSpPr/>
          <p:nvPr/>
        </p:nvSpPr>
        <p:spPr>
          <a:xfrm>
            <a:off x="1225440" y="1353960"/>
            <a:ext cx="0" cy="194472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直接连接符 21"/>
          <p:cNvSpPr/>
          <p:nvPr/>
        </p:nvSpPr>
        <p:spPr>
          <a:xfrm>
            <a:off x="5567400" y="1351080"/>
            <a:ext cx="0" cy="228600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直接连接符 23"/>
          <p:cNvSpPr/>
          <p:nvPr/>
        </p:nvSpPr>
        <p:spPr>
          <a:xfrm>
            <a:off x="5559480" y="3627360"/>
            <a:ext cx="2289240" cy="180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直接连接符 26"/>
          <p:cNvSpPr/>
          <p:nvPr/>
        </p:nvSpPr>
        <p:spPr>
          <a:xfrm>
            <a:off x="7837560" y="1353960"/>
            <a:ext cx="0" cy="228600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直接连接符 3"/>
          <p:cNvSpPr/>
          <p:nvPr/>
        </p:nvSpPr>
        <p:spPr>
          <a:xfrm flipH="1" flipV="1">
            <a:off x="5555880" y="1356840"/>
            <a:ext cx="2289240" cy="180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"/>
                            </p:stCondLst>
                            <p:childTnLst>
                              <p:par>
                                <p:cTn id="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"/>
                            </p:stCondLst>
                            <p:childTnLst>
                              <p:par>
                                <p:cTn id="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"/>
                            </p:stCondLst>
                            <p:childTnLst>
                              <p:par>
                                <p:cTn id="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"/>
                            </p:stCondLst>
                            <p:childTnLst>
                              <p:par>
                                <p:cTn id="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"/>
                            </p:stCondLst>
                            <p:childTnLst>
                              <p:par>
                                <p:cTn id="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"/>
                            </p:stCondLst>
                            <p:childTnLst>
                              <p:par>
                                <p:cTn id="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组合 2"/>
          <p:cNvGrpSpPr/>
          <p:nvPr/>
        </p:nvGrpSpPr>
        <p:grpSpPr>
          <a:xfrm>
            <a:off x="12600" y="101520"/>
            <a:ext cx="3245040" cy="525600"/>
            <a:chOff x="12600" y="101520"/>
            <a:chExt cx="3245040" cy="525600"/>
          </a:xfrm>
        </p:grpSpPr>
        <p:pic>
          <p:nvPicPr>
            <p:cNvPr id="102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63080" y="101520"/>
              <a:ext cx="3094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2" name="组合 4"/>
            <p:cNvGrpSpPr/>
            <p:nvPr/>
          </p:nvGrpSpPr>
          <p:grpSpPr>
            <a:xfrm>
              <a:off x="12600" y="197280"/>
              <a:ext cx="430200" cy="271800"/>
              <a:chOff x="12600" y="197280"/>
              <a:chExt cx="430200" cy="271800"/>
            </a:xfrm>
          </p:grpSpPr>
          <p:sp>
            <p:nvSpPr>
              <p:cNvPr id="1023" name="椭圆 1"/>
              <p:cNvSpPr/>
              <p:nvPr/>
            </p:nvSpPr>
            <p:spPr>
              <a:xfrm rot="16200000">
                <a:off x="2556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4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30760" y="32364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5" name="椭圆 29"/>
              <p:cNvSpPr/>
              <p:nvPr/>
            </p:nvSpPr>
            <p:spPr>
              <a:xfrm rot="16200000">
                <a:off x="2556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30760" y="21168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12600" y="33984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12600" y="31176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00" y="22500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12600" y="19728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31" name="八边形 3"/>
          <p:cNvSpPr/>
          <p:nvPr/>
        </p:nvSpPr>
        <p:spPr>
          <a:xfrm>
            <a:off x="114480" y="833400"/>
            <a:ext cx="51408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Picture 18" descr="14"/>
          <p:cNvPicPr/>
          <p:nvPr/>
        </p:nvPicPr>
        <p:blipFill>
          <a:blip r:embed="rId8"/>
          <a:stretch/>
        </p:blipFill>
        <p:spPr>
          <a:xfrm>
            <a:off x="1119240" y="1038240"/>
            <a:ext cx="6769080" cy="2492280"/>
          </a:xfrm>
          <a:prstGeom prst="rect">
            <a:avLst/>
          </a:prstGeom>
          <a:ln w="0">
            <a:noFill/>
          </a:ln>
        </p:spPr>
      </p:pic>
      <p:sp>
        <p:nvSpPr>
          <p:cNvPr id="1033" name="直接连接符 4"/>
          <p:cNvSpPr/>
          <p:nvPr/>
        </p:nvSpPr>
        <p:spPr>
          <a:xfrm>
            <a:off x="1119240" y="3116160"/>
            <a:ext cx="2936880" cy="180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直接连接符 6"/>
          <p:cNvSpPr/>
          <p:nvPr/>
        </p:nvSpPr>
        <p:spPr>
          <a:xfrm>
            <a:off x="4043520" y="1177920"/>
            <a:ext cx="0" cy="194472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直接连接符 7"/>
          <p:cNvSpPr/>
          <p:nvPr/>
        </p:nvSpPr>
        <p:spPr>
          <a:xfrm flipH="1">
            <a:off x="1119240" y="1177920"/>
            <a:ext cx="293832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直接连接符 8"/>
          <p:cNvSpPr/>
          <p:nvPr/>
        </p:nvSpPr>
        <p:spPr>
          <a:xfrm>
            <a:off x="1128600" y="1173240"/>
            <a:ext cx="0" cy="194472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直接连接符 9"/>
          <p:cNvSpPr/>
          <p:nvPr/>
        </p:nvSpPr>
        <p:spPr>
          <a:xfrm flipH="1">
            <a:off x="5470200" y="1173240"/>
            <a:ext cx="3240" cy="228600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直接连接符 10"/>
          <p:cNvSpPr/>
          <p:nvPr/>
        </p:nvSpPr>
        <p:spPr>
          <a:xfrm>
            <a:off x="5462640" y="3446640"/>
            <a:ext cx="2289240" cy="144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直接连接符 11"/>
          <p:cNvSpPr/>
          <p:nvPr/>
        </p:nvSpPr>
        <p:spPr>
          <a:xfrm>
            <a:off x="7740720" y="1173240"/>
            <a:ext cx="0" cy="228600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直接连接符 12"/>
          <p:cNvSpPr/>
          <p:nvPr/>
        </p:nvSpPr>
        <p:spPr>
          <a:xfrm flipH="1" flipV="1">
            <a:off x="5459040" y="1176480"/>
            <a:ext cx="2289240" cy="144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Box 10"/>
          <p:cNvSpPr/>
          <p:nvPr/>
        </p:nvSpPr>
        <p:spPr>
          <a:xfrm>
            <a:off x="1220760" y="504720"/>
            <a:ext cx="5643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计算下面长方形和正方形的周长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Box 11"/>
          <p:cNvSpPr/>
          <p:nvPr/>
        </p:nvSpPr>
        <p:spPr>
          <a:xfrm rot="16200000">
            <a:off x="3867120" y="1785960"/>
            <a:ext cx="10000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Box 12"/>
          <p:cNvSpPr/>
          <p:nvPr/>
        </p:nvSpPr>
        <p:spPr>
          <a:xfrm>
            <a:off x="2046240" y="3038400"/>
            <a:ext cx="1000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Box 13"/>
          <p:cNvSpPr/>
          <p:nvPr/>
        </p:nvSpPr>
        <p:spPr>
          <a:xfrm>
            <a:off x="7888320" y="2203560"/>
            <a:ext cx="10000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圆角矩形 20"/>
          <p:cNvSpPr/>
          <p:nvPr/>
        </p:nvSpPr>
        <p:spPr>
          <a:xfrm>
            <a:off x="950760" y="4459320"/>
            <a:ext cx="2981520" cy="184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长方形的周长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6+4+6+4=20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（厘米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正方形的周长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5+5+5+5=20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（厘米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圆角矩形 21"/>
          <p:cNvSpPr/>
          <p:nvPr/>
        </p:nvSpPr>
        <p:spPr>
          <a:xfrm>
            <a:off x="4186080" y="4483080"/>
            <a:ext cx="4472280" cy="182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长方形的周长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6+4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）</a:t>
            </a: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×2=20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（厘米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正方形的周长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c1c1c"/>
                </a:solidFill>
                <a:latin typeface="宋体"/>
              </a:rPr>
              <a:t>5×4=20</a:t>
            </a: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（厘米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组合 15"/>
          <p:cNvGrpSpPr/>
          <p:nvPr/>
        </p:nvGrpSpPr>
        <p:grpSpPr>
          <a:xfrm>
            <a:off x="868320" y="3503520"/>
            <a:ext cx="3362040" cy="858960"/>
            <a:chOff x="868320" y="3503520"/>
            <a:chExt cx="3362040" cy="858960"/>
          </a:xfrm>
        </p:grpSpPr>
        <p:sp>
          <p:nvSpPr>
            <p:cNvPr id="1048" name="AutoShape 27"/>
            <p:cNvSpPr/>
            <p:nvPr/>
          </p:nvSpPr>
          <p:spPr>
            <a:xfrm>
              <a:off x="1944000" y="3594960"/>
              <a:ext cx="2286360" cy="715320"/>
            </a:xfrm>
            <a:prstGeom prst="wedgeRoundRectCallout">
              <a:avLst>
                <a:gd name="adj1" fmla="val -56972"/>
                <a:gd name="adj2" fmla="val 321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我是这样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算</a:t>
              </a: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的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9" name="图片 13" descr="6)5][}VZ%@FXJ)FA]TI76$O"/>
            <p:cNvPicPr/>
            <p:nvPr/>
          </p:nvPicPr>
          <p:blipFill>
            <a:blip r:embed="rId9"/>
            <a:stretch/>
          </p:blipFill>
          <p:spPr>
            <a:xfrm>
              <a:off x="868320" y="3503520"/>
              <a:ext cx="805320" cy="85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0" name="组合 18"/>
          <p:cNvGrpSpPr/>
          <p:nvPr/>
        </p:nvGrpSpPr>
        <p:grpSpPr>
          <a:xfrm>
            <a:off x="5181480" y="3444840"/>
            <a:ext cx="3476520" cy="976320"/>
            <a:chOff x="5181480" y="3444840"/>
            <a:chExt cx="3476520" cy="976320"/>
          </a:xfrm>
        </p:grpSpPr>
        <p:sp>
          <p:nvSpPr>
            <p:cNvPr id="1051" name="AutoShape 27"/>
            <p:cNvSpPr/>
            <p:nvPr/>
          </p:nvSpPr>
          <p:spPr>
            <a:xfrm>
              <a:off x="5181480" y="3567960"/>
              <a:ext cx="2501640" cy="731160"/>
            </a:xfrm>
            <a:prstGeom prst="wedgeRoundRectCallout">
              <a:avLst>
                <a:gd name="adj1" fmla="val 57032"/>
                <a:gd name="adj2" fmla="val 3303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我是这样算的。 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2" name="图片 16" descr="]@P`{@U$K{A7A$9804YYMFT"/>
            <p:cNvPicPr/>
            <p:nvPr/>
          </p:nvPicPr>
          <p:blipFill>
            <a:blip r:embed="rId10"/>
            <a:stretch/>
          </p:blipFill>
          <p:spPr>
            <a:xfrm flipH="1">
              <a:off x="7888320" y="3444840"/>
              <a:ext cx="769680" cy="976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"/>
                            </p:stCondLst>
                            <p:childTnLst>
                              <p:par>
                                <p:cTn id="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"/>
                            </p:stCondLst>
                            <p:childTnLst>
                              <p:par>
                                <p:cTn id="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"/>
                            </p:stCondLst>
                            <p:childTnLst>
                              <p:par>
                                <p:cTn id="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"/>
                            </p:stCondLst>
                            <p:childTnLst>
                              <p:par>
                                <p:cTn id="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"/>
                            </p:stCondLst>
                            <p:childTnLst>
                              <p:par>
                                <p:cTn id="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"/>
                            </p:stCondLst>
                            <p:childTnLst>
                              <p:par>
                                <p:cTn id="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组合 2"/>
          <p:cNvGrpSpPr/>
          <p:nvPr/>
        </p:nvGrpSpPr>
        <p:grpSpPr>
          <a:xfrm>
            <a:off x="-60480" y="101520"/>
            <a:ext cx="3245040" cy="525600"/>
            <a:chOff x="-60480" y="101520"/>
            <a:chExt cx="3245040" cy="525600"/>
          </a:xfrm>
        </p:grpSpPr>
        <p:pic>
          <p:nvPicPr>
            <p:cNvPr id="105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90000" y="101520"/>
              <a:ext cx="3094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5" name="组合 4"/>
            <p:cNvGrpSpPr/>
            <p:nvPr/>
          </p:nvGrpSpPr>
          <p:grpSpPr>
            <a:xfrm>
              <a:off x="-60480" y="197280"/>
              <a:ext cx="430200" cy="271800"/>
              <a:chOff x="-60480" y="197280"/>
              <a:chExt cx="430200" cy="271800"/>
            </a:xfrm>
          </p:grpSpPr>
          <p:sp>
            <p:nvSpPr>
              <p:cNvPr id="1056" name="椭圆 1"/>
              <p:cNvSpPr/>
              <p:nvPr/>
            </p:nvSpPr>
            <p:spPr>
              <a:xfrm rot="16200000">
                <a:off x="18252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7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7680" y="32364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椭圆 29"/>
              <p:cNvSpPr/>
              <p:nvPr/>
            </p:nvSpPr>
            <p:spPr>
              <a:xfrm rot="16200000">
                <a:off x="18252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57680" y="21168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60480" y="33984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60480" y="31176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60480" y="22500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60480" y="19728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4" name="八边形 3"/>
          <p:cNvSpPr/>
          <p:nvPr/>
        </p:nvSpPr>
        <p:spPr>
          <a:xfrm>
            <a:off x="233280" y="914400"/>
            <a:ext cx="51444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Box 6"/>
          <p:cNvSpPr/>
          <p:nvPr/>
        </p:nvSpPr>
        <p:spPr>
          <a:xfrm>
            <a:off x="500040" y="3218040"/>
            <a:ext cx="77868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长方形的周长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正方形的周长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Box 7"/>
          <p:cNvSpPr/>
          <p:nvPr/>
        </p:nvSpPr>
        <p:spPr>
          <a:xfrm>
            <a:off x="2571840" y="3168720"/>
            <a:ext cx="2428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长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+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宽）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×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8"/>
          <p:cNvSpPr/>
          <p:nvPr/>
        </p:nvSpPr>
        <p:spPr>
          <a:xfrm>
            <a:off x="2857680" y="4311720"/>
            <a:ext cx="1428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边长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×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组合 18"/>
          <p:cNvGrpSpPr/>
          <p:nvPr/>
        </p:nvGrpSpPr>
        <p:grpSpPr>
          <a:xfrm>
            <a:off x="2928960" y="1432080"/>
            <a:ext cx="4012920" cy="857160"/>
            <a:chOff x="2928960" y="1432080"/>
            <a:chExt cx="4012920" cy="857160"/>
          </a:xfrm>
        </p:grpSpPr>
        <p:sp>
          <p:nvSpPr>
            <p:cNvPr id="1069" name="AutoShape 27"/>
            <p:cNvSpPr/>
            <p:nvPr/>
          </p:nvSpPr>
          <p:spPr>
            <a:xfrm>
              <a:off x="2928960" y="1432080"/>
              <a:ext cx="2898720" cy="821160"/>
            </a:xfrm>
            <a:prstGeom prst="wedgeRoundRectCallout">
              <a:avLst>
                <a:gd name="adj1" fmla="val 61740"/>
                <a:gd name="adj2" fmla="val 3329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你喜欢哪种方法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0" name="图片 17" descr="6)5][}VZ%@FXJ)FA]TI76$O"/>
            <p:cNvPicPr/>
            <p:nvPr/>
          </p:nvPicPr>
          <p:blipFill>
            <a:blip r:embed="rId8"/>
            <a:stretch/>
          </p:blipFill>
          <p:spPr>
            <a:xfrm>
              <a:off x="6136920" y="1432080"/>
              <a:ext cx="80496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文本框 4"/>
          <p:cNvSpPr/>
          <p:nvPr/>
        </p:nvSpPr>
        <p:spPr>
          <a:xfrm>
            <a:off x="1271520" y="1397160"/>
            <a:ext cx="66009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长方形和正方形周长的计算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文本框 6"/>
          <p:cNvSpPr/>
          <p:nvPr/>
        </p:nvSpPr>
        <p:spPr>
          <a:xfrm>
            <a:off x="179280" y="2808360"/>
            <a:ext cx="826776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方形的周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宽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正方形的周长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边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3" name="组合 2"/>
          <p:cNvGrpSpPr/>
          <p:nvPr/>
        </p:nvGrpSpPr>
        <p:grpSpPr>
          <a:xfrm>
            <a:off x="20520" y="101520"/>
            <a:ext cx="3245040" cy="525600"/>
            <a:chOff x="20520" y="101520"/>
            <a:chExt cx="3245040" cy="525600"/>
          </a:xfrm>
        </p:grpSpPr>
        <p:pic>
          <p:nvPicPr>
            <p:cNvPr id="107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1000" y="101520"/>
              <a:ext cx="3094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5" name="组合 4"/>
            <p:cNvGrpSpPr/>
            <p:nvPr/>
          </p:nvGrpSpPr>
          <p:grpSpPr>
            <a:xfrm>
              <a:off x="20520" y="197280"/>
              <a:ext cx="430200" cy="271800"/>
              <a:chOff x="20520" y="197280"/>
              <a:chExt cx="430200" cy="271800"/>
            </a:xfrm>
          </p:grpSpPr>
          <p:sp>
            <p:nvSpPr>
              <p:cNvPr id="1076" name="椭圆 1"/>
              <p:cNvSpPr/>
              <p:nvPr/>
            </p:nvSpPr>
            <p:spPr>
              <a:xfrm rot="16200000">
                <a:off x="26352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7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38680" y="32364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椭圆 29"/>
              <p:cNvSpPr/>
              <p:nvPr/>
            </p:nvSpPr>
            <p:spPr>
              <a:xfrm rot="16200000">
                <a:off x="26352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38680" y="21168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20" y="33984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20520" y="31176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20" y="22500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20520" y="19728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4" name="Rectangle 2"/>
          <p:cNvSpPr/>
          <p:nvPr/>
        </p:nvSpPr>
        <p:spPr>
          <a:xfrm>
            <a:off x="285840" y="1054080"/>
            <a:ext cx="835812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个长方形花坛的长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，宽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。这个花坛的周长是多少米？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3"/>
          <p:cNvSpPr/>
          <p:nvPr/>
        </p:nvSpPr>
        <p:spPr>
          <a:xfrm>
            <a:off x="973080" y="2628720"/>
            <a:ext cx="457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＋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×2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6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米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Picture 2" descr="D:\我的文档-桌面-收藏夹\桌面\image002副本.jpg"/>
          <p:cNvPicPr/>
          <p:nvPr/>
        </p:nvPicPr>
        <p:blipFill>
          <a:blip r:embed="rId8"/>
          <a:stretch/>
        </p:blipFill>
        <p:spPr>
          <a:xfrm>
            <a:off x="5464080" y="2182680"/>
            <a:ext cx="3179880" cy="136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组合 2"/>
          <p:cNvGrpSpPr/>
          <p:nvPr/>
        </p:nvGrpSpPr>
        <p:grpSpPr>
          <a:xfrm>
            <a:off x="20520" y="101520"/>
            <a:ext cx="3245040" cy="525600"/>
            <a:chOff x="20520" y="101520"/>
            <a:chExt cx="3245040" cy="525600"/>
          </a:xfrm>
        </p:grpSpPr>
        <p:pic>
          <p:nvPicPr>
            <p:cNvPr id="108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1000" y="101520"/>
              <a:ext cx="3094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9" name="组合 4"/>
            <p:cNvGrpSpPr/>
            <p:nvPr/>
          </p:nvGrpSpPr>
          <p:grpSpPr>
            <a:xfrm>
              <a:off x="20520" y="197280"/>
              <a:ext cx="430200" cy="271800"/>
              <a:chOff x="20520" y="197280"/>
              <a:chExt cx="430200" cy="271800"/>
            </a:xfrm>
          </p:grpSpPr>
          <p:sp>
            <p:nvSpPr>
              <p:cNvPr id="1090" name="椭圆 1"/>
              <p:cNvSpPr/>
              <p:nvPr/>
            </p:nvSpPr>
            <p:spPr>
              <a:xfrm rot="16200000">
                <a:off x="26352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1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38680" y="32364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2" name="椭圆 29"/>
              <p:cNvSpPr/>
              <p:nvPr/>
            </p:nvSpPr>
            <p:spPr>
              <a:xfrm rot="16200000">
                <a:off x="26352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38680" y="21168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20" y="33984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20520" y="31176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20" y="22500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20520" y="19728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8" name="Rectangle 2"/>
          <p:cNvSpPr/>
          <p:nvPr/>
        </p:nvSpPr>
        <p:spPr>
          <a:xfrm>
            <a:off x="200160" y="1076400"/>
            <a:ext cx="860724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块正方形桌布（如下图），要在它的四周缝上花边，花边的长是多少分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3"/>
          <p:cNvSpPr/>
          <p:nvPr/>
        </p:nvSpPr>
        <p:spPr>
          <a:xfrm>
            <a:off x="968400" y="2495520"/>
            <a:ext cx="445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0×4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0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分米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11" descr="16"/>
          <p:cNvPicPr/>
          <p:nvPr/>
        </p:nvPicPr>
        <p:blipFill>
          <a:blip r:embed="rId8"/>
          <a:stretch/>
        </p:blipFill>
        <p:spPr>
          <a:xfrm>
            <a:off x="6189840" y="2301840"/>
            <a:ext cx="1928520" cy="225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0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04" name="椭圆 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6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2" name="矩形 9"/>
          <p:cNvSpPr/>
          <p:nvPr/>
        </p:nvSpPr>
        <p:spPr>
          <a:xfrm>
            <a:off x="1082520" y="8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文本框 103"/>
          <p:cNvSpPr/>
          <p:nvPr/>
        </p:nvSpPr>
        <p:spPr>
          <a:xfrm>
            <a:off x="293760" y="942840"/>
            <a:ext cx="8667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量一量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课桌的桌面长（　　）厘米，宽（　　）厘米，周长是（　　　）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数学书封面长（　　）厘米，宽（　　）厘米，周长是（　　　）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数学练习本长（　　）厘米，宽（　　）厘米，周长是（　　　）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文本框 3"/>
          <p:cNvSpPr/>
          <p:nvPr/>
        </p:nvSpPr>
        <p:spPr>
          <a:xfrm>
            <a:off x="4243320" y="1787400"/>
            <a:ext cx="944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文本框 4"/>
          <p:cNvSpPr/>
          <p:nvPr/>
        </p:nvSpPr>
        <p:spPr>
          <a:xfrm>
            <a:off x="7137360" y="1787400"/>
            <a:ext cx="946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文本框 6"/>
          <p:cNvSpPr/>
          <p:nvPr/>
        </p:nvSpPr>
        <p:spPr>
          <a:xfrm>
            <a:off x="2521080" y="2416320"/>
            <a:ext cx="946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文本框 7"/>
          <p:cNvSpPr/>
          <p:nvPr/>
        </p:nvSpPr>
        <p:spPr>
          <a:xfrm>
            <a:off x="3467160" y="3003480"/>
            <a:ext cx="944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8"/>
          <p:cNvSpPr/>
          <p:nvPr/>
        </p:nvSpPr>
        <p:spPr>
          <a:xfrm>
            <a:off x="6391440" y="3089160"/>
            <a:ext cx="9442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文本框 9"/>
          <p:cNvSpPr/>
          <p:nvPr/>
        </p:nvSpPr>
        <p:spPr>
          <a:xfrm>
            <a:off x="1781280" y="3751200"/>
            <a:ext cx="946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文本框 10"/>
          <p:cNvSpPr/>
          <p:nvPr/>
        </p:nvSpPr>
        <p:spPr>
          <a:xfrm>
            <a:off x="3467160" y="4327560"/>
            <a:ext cx="944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文本框 11"/>
          <p:cNvSpPr/>
          <p:nvPr/>
        </p:nvSpPr>
        <p:spPr>
          <a:xfrm>
            <a:off x="6391440" y="4327560"/>
            <a:ext cx="9442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文本框 12"/>
          <p:cNvSpPr/>
          <p:nvPr/>
        </p:nvSpPr>
        <p:spPr>
          <a:xfrm>
            <a:off x="1871640" y="4987800"/>
            <a:ext cx="9460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2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26" name="椭圆 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7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4" name="矩形 9"/>
          <p:cNvSpPr/>
          <p:nvPr/>
        </p:nvSpPr>
        <p:spPr>
          <a:xfrm>
            <a:off x="1082520" y="8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课后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文本框 103"/>
          <p:cNvSpPr/>
          <p:nvPr/>
        </p:nvSpPr>
        <p:spPr>
          <a:xfrm>
            <a:off x="279360" y="91296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算出下面图形的周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6" name="图片 -2147482621" descr=""/>
          <p:cNvPicPr/>
          <p:nvPr/>
        </p:nvPicPr>
        <p:blipFill>
          <a:blip r:embed="rId8"/>
          <a:stretch/>
        </p:blipFill>
        <p:spPr>
          <a:xfrm>
            <a:off x="914400" y="1959120"/>
            <a:ext cx="2082960" cy="1204920"/>
          </a:xfrm>
          <a:prstGeom prst="rect">
            <a:avLst/>
          </a:prstGeom>
          <a:ln w="0">
            <a:noFill/>
          </a:ln>
        </p:spPr>
      </p:pic>
      <p:grpSp>
        <p:nvGrpSpPr>
          <p:cNvPr id="1137" name="Group 27"/>
          <p:cNvGrpSpPr/>
          <p:nvPr/>
        </p:nvGrpSpPr>
        <p:grpSpPr>
          <a:xfrm>
            <a:off x="4660920" y="2200320"/>
            <a:ext cx="1293840" cy="1015920"/>
            <a:chOff x="4660920" y="2200320"/>
            <a:chExt cx="1293840" cy="1015920"/>
          </a:xfrm>
        </p:grpSpPr>
        <p:sp>
          <p:nvSpPr>
            <p:cNvPr id="1138" name="Picture 26"/>
            <p:cNvSpPr/>
            <p:nvPr/>
          </p:nvSpPr>
          <p:spPr>
            <a:xfrm>
              <a:off x="4768920" y="2200320"/>
              <a:ext cx="1085760" cy="8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Rectangle 28"/>
            <p:cNvSpPr/>
            <p:nvPr/>
          </p:nvSpPr>
          <p:spPr>
            <a:xfrm>
              <a:off x="5236200" y="2452680"/>
              <a:ext cx="605880" cy="617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Rectangle 29"/>
            <p:cNvSpPr/>
            <p:nvPr/>
          </p:nvSpPr>
          <p:spPr>
            <a:xfrm>
              <a:off x="4660920" y="2667240"/>
              <a:ext cx="5918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8</a:t>
              </a: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分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Rectangle 30"/>
            <p:cNvSpPr/>
            <p:nvPr/>
          </p:nvSpPr>
          <p:spPr>
            <a:xfrm>
              <a:off x="5262840" y="2222640"/>
              <a:ext cx="6919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8</a:t>
              </a: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分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2" name="Rectangle 3"/>
          <p:cNvSpPr/>
          <p:nvPr/>
        </p:nvSpPr>
        <p:spPr>
          <a:xfrm>
            <a:off x="96840" y="3805200"/>
            <a:ext cx="456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＋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×2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8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米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3"/>
          <p:cNvSpPr/>
          <p:nvPr/>
        </p:nvSpPr>
        <p:spPr>
          <a:xfrm>
            <a:off x="4338720" y="3805200"/>
            <a:ext cx="456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×4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2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分米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7:11:36Z</dcterms:created>
  <dc:creator/>
  <dc:description/>
  <dc:language>en-US</dc:language>
  <cp:lastModifiedBy>万润仪器贸易公司</cp:lastModifiedBy>
  <dcterms:modified xsi:type="dcterms:W3CDTF">2020-08-21T01:29:16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